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12.png" ContentType="image/png"/>
  <Override PartName="/ppt/media/image7.jpeg" ContentType="image/jpeg"/>
  <Override PartName="/ppt/media/image11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C61DC-2993-4AC6-9993-53AFDDBB3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4E82D-DE19-4830-9B03-CDF510E7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8FF80-5AD7-4D2E-9EF9-F169DE528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EED13-EF9E-4F89-81E4-7C78162CB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32E4-3B89-41CB-97DD-EF8E338D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D970-7DDA-415E-8209-A4C744C0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B7B8-B94B-4C7F-AFC7-53BAD48E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4E11-27FC-4B79-8F98-2248DB57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9FDF-2EE3-461B-B265-8E341D09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91DF-5BD9-4DB1-B76C-5AAB5AA6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F1F5-6778-440E-917F-E0DB5D03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EF2F0-0A97-4B8A-95A5-DEFEE468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F909-291A-4244-B134-0EAC5D99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2428-9CC8-423A-99DD-A290412C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6C21-47D8-48AB-BBF0-1BEC47BB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E122-2F15-4AF1-9EC7-7B028F0D7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CFF7-6588-49BB-9D0D-348E3C058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DEFA6-25D3-4DF1-8659-254052A9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A3F24-92E0-47E5-9453-C4B3B202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E4571-4B9C-44DF-A285-5F56C65E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D90E8-0748-4FC7-9BBD-1E881E5B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8DDD2-6273-4D7D-9551-26B4ECE4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59DD3-DFA3-4265-89EC-A1D417F5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333F9-F7ED-4CEA-A1BF-74912535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335B-4CBD-4FF6-9A51-81E1A635F7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AAD7-AC4A-4EE3-B361-3E988DC2E1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hyperlink" Target="http://www.50states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hyperlink" Target="http://bensguide.gpo.gov/3-5/state/utah.html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postcardsfrom.com/t1/981109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postcardsfrom.com/t1/981113.html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990720" y="152280"/>
            <a:ext cx="75438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Uta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14" name=""/>
          <p:cNvSpPr/>
          <p:nvPr/>
        </p:nvSpPr>
        <p:spPr>
          <a:xfrm>
            <a:off x="2514600" y="4836960"/>
            <a:ext cx="237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715000" y="5105520"/>
            <a:ext cx="3048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taf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ptember/22/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: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#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0" y="5405400"/>
            <a:ext cx="2666880" cy="145260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2666880" y="661356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lip Ar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7924680" y="228600"/>
            <a:ext cx="106704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0 states,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State Song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/7/10,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Arial"/>
                <a:hlinkClick r:id="rId3"/>
              </a:rPr>
              <a:t>www.50states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5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name: Uta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ital: Salt Lake C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: 2,233,16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ed the Union in January4 1896 and It was the 45 state to join the Un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ck Name: Bee Hive St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wer: Sego Li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d: American Seagu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ng: Utah, We Love The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ing Behind The Name: The name was taken from the Ute Indians whose name means “People Of The Mountains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0"/>
          <a:stretch/>
        </p:blipFill>
        <p:spPr>
          <a:xfrm>
            <a:off x="5715000" y="2438280"/>
            <a:ext cx="1579680" cy="175284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7315200" y="36496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lip ar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cover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Utah: Map and State Flag"/>
          <p:cNvPicPr/>
          <p:nvPr/>
        </p:nvPicPr>
        <p:blipFill>
          <a:blip r:embed="rId1"/>
          <a:srcRect l="0" t="0" r="-3675" b="62795"/>
          <a:stretch/>
        </p:blipFill>
        <p:spPr>
          <a:xfrm>
            <a:off x="1905120" y="304920"/>
            <a:ext cx="2819160" cy="201456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Utah: Map and State Flag"/>
          <p:cNvPicPr/>
          <p:nvPr/>
        </p:nvPicPr>
        <p:blipFill>
          <a:blip r:embed="rId2"/>
          <a:srcRect l="0" t="33487" r="0" b="0"/>
          <a:stretch/>
        </p:blipFill>
        <p:spPr>
          <a:xfrm>
            <a:off x="5562720" y="2666880"/>
            <a:ext cx="2639880" cy="349596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609480" y="4800600"/>
            <a:ext cx="4724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n’s Guide to U.S. Government,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Quick Facts Uta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22September 2012, </a:t>
            </a:r>
            <a:r>
              <a:rPr b="0" lang="en-US" sz="1800" spc="-1" strike="noStrike" u="sng">
                <a:solidFill>
                  <a:srgbClr val="9999ff"/>
                </a:solidFill>
                <a:uFillTx/>
                <a:latin typeface="Arial"/>
                <a:hlinkClick r:id="rId3"/>
              </a:rPr>
              <a:t>http://bensguide.gpo.gov/3-5/state/utah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019920" y="76212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te flag is a very wonderful fla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cover dir="r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5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All images Copyright © 1997 - 2000 WriteLine. All Rights Reserved. Temple Square"/>
          <p:cNvPicPr/>
          <p:nvPr/>
        </p:nvPicPr>
        <p:blipFill>
          <a:blip r:embed="rId1"/>
          <a:stretch/>
        </p:blipFill>
        <p:spPr>
          <a:xfrm>
            <a:off x="0" y="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380880" y="5867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 cards from America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emple Squa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9/23/2012, </a:t>
            </a:r>
            <a:r>
              <a:rPr b="0" lang="en-US" sz="18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http://www.postcardsfrom.com/t1/981109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295280" y="502920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multi-spired chaplei assumes quiet and peaceful dign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cover dir="r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28 0.011 0.08657 0.028 0.1132 C 0.028 0.11453 0.055 0.15049 0.055 0.14916 C 0.07 0.16914 0.079 0.19711 0.079 0.2264 C 0.079 0.285 0.044 0.33162 0 0.33295 C -0.044 0.33162 -0.079 0.285 -0.079 0.2264 C -0.079 0.19711 -0.07 0.16914 -0.055 0.14916 C -0.055 0.15049 -0.028 0.11453 -0.028 0.1132 C -0.011 0.08657 -0.001 0.04528 0 0 Z">
                                      <p:cBhvr>
                                        <p:cTn id="52" dur="20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All images Copyright © 1997 - 2000 WriteLine. All Rights Reserved. Moab UT Mountain lion track"/>
          <p:cNvPicPr/>
          <p:nvPr/>
        </p:nvPicPr>
        <p:blipFill>
          <a:blip r:embed="rId1"/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533520" y="49528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09480" y="5486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 cards from America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Moab, Uta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9/23/2012, </a:t>
            </a:r>
            <a:r>
              <a:rPr b="0" lang="en-US" sz="18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http://www.postcardsfrom.com/t1/981113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876920" y="3352680"/>
            <a:ext cx="373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Quite little town on the shore of the Colorado River had some wild inhabitants  over the yea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cover dir="r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1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28 L 0.125 0 L 0.177 0 L 0.177 0.06925 L 0.213 0.11853 L 0.177 0.16647 L 0.177 0.23573 L 0.125 0.23573 L 0.089 0.28367 L 0.052 0.23573 L 0 0.23573 L 0 0.16647 L -0.037 0.11853 L 0 0.06925 L 0 0 Z">
                                      <p:cBhvr>
                                        <p:cTn id="58" dur="2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Copyright © 1998 WriteLine. All Rights Reserved. Sego Lily"/>
          <p:cNvPicPr/>
          <p:nvPr/>
        </p:nvPicPr>
        <p:blipFill>
          <a:blip r:embed="rId1"/>
          <a:stretch/>
        </p:blipFill>
        <p:spPr>
          <a:xfrm>
            <a:off x="0" y="0"/>
            <a:ext cx="2506680" cy="297180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Copyright © 1998 WriteLine. All Rights Reserved. Seagull"/>
          <p:cNvPicPr/>
          <p:nvPr/>
        </p:nvPicPr>
        <p:blipFill>
          <a:blip r:embed="rId2"/>
          <a:stretch/>
        </p:blipFill>
        <p:spPr>
          <a:xfrm>
            <a:off x="6172200" y="4384800"/>
            <a:ext cx="2971800" cy="247320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Copyright © 1998 WriteLine. All Rights Reserved. Blue Spruce tree"/>
          <p:cNvPicPr/>
          <p:nvPr/>
        </p:nvPicPr>
        <p:blipFill>
          <a:blip r:embed="rId3"/>
          <a:stretch/>
        </p:blipFill>
        <p:spPr>
          <a:xfrm>
            <a:off x="0" y="3733920"/>
            <a:ext cx="2146320" cy="312408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3581280" y="914400"/>
            <a:ext cx="5562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 cards from America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, Utah State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tamps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2/9/2012,http://www.postcardsfrom.com/stamp/stamp-ut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209680" y="53341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tes bird, tree and flower are beautifu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cover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.04395 0.027 0.07991 0.06 0.07991 C 0.099 0.07991 0.113 0.03995 0.119 0.01598 L 0.125 -0.01598 C 0.131 -0.03995 0.146 -0.07991 0.19 -0.07991 C 0.218 -0.07991 0.25 -0.04395 0.25 0 C 0.25 0.04395 0.218 0.07991 0.19 0.07991 C 0.146 0.07991 0.131 0.03995 0.125 0.01598 L 0.119 -0.01598 C 0.113 -0.03995 0.099 -0.07991 0.06 -0.07991 C 0.027 -0.07991 0 -0.04395 0 0 Z">
                                      <p:cBhvr>
                                        <p:cTn id="64" dur="20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4:23:35Z</dcterms:created>
  <dc:creator>install</dc:creator>
  <dc:description/>
  <dc:language>en-US</dc:language>
  <cp:lastModifiedBy>install</cp:lastModifiedBy>
  <dcterms:modified xsi:type="dcterms:W3CDTF">2010-10-14T13:19:43Z</dcterms:modified>
  <cp:revision>10</cp:revision>
  <dc:subject/>
  <dc:title>Slide 1</dc:title>
</cp:coreProperties>
</file>